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AD84C-B027-4A7D-B346-92C67DE13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and uses of noble gas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is lighter than air and rises, so it is used in ballo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 and several other noble gasses glow different colors when electricity is passed through them, so they are used inl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le gasses do not bu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DD79B-481B-4597-9A72-7D0F47D06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you need to know the names of the families and their properties! The Lanthanides and the Actinides are transition metals as well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39BE1-6826-4AB0-B6AF-E23E8A57A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groups (vertical columns found in the periodic table) are called families.  Note that the transition metals are not on this li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elements in each group (or family) share many physical and chemical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next lecture we will be discussing trends in the periodic table.  However, one trend in the periodic table is that elements of the same family share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AA453-14A2-4A0C-9E90-E1F28D960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the oxygen family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6 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 gas, the others are all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t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y of col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312518-98ED-45F7-8E91-980A20B1F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and uses of the oxygen famil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s with metals and nonmetals covalen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compounds can be unstable, like oz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in hydrogen peroxide, used as a clea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not live without breathing oxy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lfuric acid is very important as a strong acid in batteries, fertilizers, and deterg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nium reacts to light and changes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096DB-770F-42CC-BC9F-0F6F29BD3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properties of halogen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me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exist free in nature.  They are always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salts with alkali me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7 valenc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lorine, fluorine, and bromine are g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86CE2-9372-49E8-8E43-A97031E45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and uses of the haloge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in everything from household cleaners to table sa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de prevents tooth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lorine and bromine kill bacteria and is used in pools and drinking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 works as an antibio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re poisonous to humans in their natural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ver bromide is used on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D7BB68-63A9-4988-A7C0-FF87DCF8D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properties of the noble gasse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onme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g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re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 light when he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EC6B6-3263-44BF-AFCE-BE3C46BF8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9E5A-B2AD-43CE-A2DD-62DC9608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FAEB-5506-4652-9080-DA6E879B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51A-21C0-49FA-AFBC-3B1EFF3E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F70-8498-4BC4-A1FA-3740156A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A98-1FFA-463F-81B4-D9CFE2E9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DAE-99E3-44F3-92BC-A53321C7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B8BF-2FE8-4240-B184-4005F726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22F-882C-4E2C-842B-CB557E34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10A-5545-4CE0-A553-92048729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410A-32EE-44FE-974E-AAA1DA06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BDC-4F18-4622-9A23-AC6DEC83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D39-3D48-43CC-AE08-2D435C4C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5CCCC-BE6E-4D03-9A10-BC9E3CD84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cture: Families of the Periodic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t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rt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5202360" y="1171440"/>
            <a:ext cx="352872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223920" y="469800"/>
            <a:ext cx="464004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xygen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log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bel G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768240" y="4343400"/>
            <a:ext cx="7543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768240" y="4343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than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844560" y="4876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63680" y="990720"/>
            <a:ext cx="4572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768240" y="4876920"/>
            <a:ext cx="7543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9208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8236080" y="990720"/>
            <a:ext cx="4572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77788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73216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68644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64072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59500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9"/>
          <p:cNvSpPr/>
          <p:nvPr/>
        </p:nvSpPr>
        <p:spPr>
          <a:xfrm>
            <a:off x="1378080" y="2209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1378080" y="4038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21"/>
          <p:cNvSpPr/>
          <p:nvPr/>
        </p:nvSpPr>
        <p:spPr>
          <a:xfrm flipV="1">
            <a:off x="54928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549288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1987560" y="2666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4"/>
          <p:cNvSpPr/>
          <p:nvPr/>
        </p:nvSpPr>
        <p:spPr>
          <a:xfrm rot="16243800">
            <a:off x="-296640" y="2252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25"/>
          <p:cNvSpPr/>
          <p:nvPr/>
        </p:nvSpPr>
        <p:spPr>
          <a:xfrm rot="16225200">
            <a:off x="-357840" y="2313360"/>
            <a:ext cx="2971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lkaline Earth Metal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26"/>
          <p:cNvSpPr/>
          <p:nvPr/>
        </p:nvSpPr>
        <p:spPr>
          <a:xfrm rot="16222200">
            <a:off x="7208640" y="2442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27"/>
          <p:cNvSpPr/>
          <p:nvPr/>
        </p:nvSpPr>
        <p:spPr>
          <a:xfrm rot="16205400">
            <a:off x="7551360" y="24051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28"/>
          <p:cNvSpPr/>
          <p:nvPr/>
        </p:nvSpPr>
        <p:spPr>
          <a:xfrm rot="16200000">
            <a:off x="5227200" y="2551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o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29"/>
          <p:cNvSpPr/>
          <p:nvPr/>
        </p:nvSpPr>
        <p:spPr>
          <a:xfrm rot="16219200">
            <a:off x="5570280" y="25131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0"/>
          <p:cNvSpPr/>
          <p:nvPr/>
        </p:nvSpPr>
        <p:spPr>
          <a:xfrm rot="16171200">
            <a:off x="5951160" y="2513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roge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1"/>
          <p:cNvSpPr/>
          <p:nvPr/>
        </p:nvSpPr>
        <p:spPr>
          <a:xfrm rot="16200000">
            <a:off x="6484680" y="2589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380880" y="1752480"/>
            <a:ext cx="8153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 Metals (Group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ne Earth Metals (Group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on Family (Group 3 or 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Family (Group 4 or 1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rogen Family (Group 5 or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Family (Group 6 or 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ogens (Group 7 or 1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le Gases Group 8 or 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WordArt 2"/>
          <p:cNvSpPr txBox="1"/>
          <p:nvPr/>
        </p:nvSpPr>
        <p:spPr>
          <a:xfrm>
            <a:off x="2057400" y="380880"/>
            <a:ext cx="5334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Main Group Element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304920" y="304920"/>
            <a:ext cx="5121000" cy="16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Oxygen Famil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213600" y="838080"/>
            <a:ext cx="3108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xygen family includes oxygen (O), sulfur (S), selenium (Se), tellurium (Te), and polonium (Po).  Polonium is a metalloid, all the others are nonmet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6172200" y="43434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0" y="2176560"/>
            <a:ext cx="62136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4692600" y="922320"/>
            <a:ext cx="4451400" cy="5935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91464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380880" y="380880"/>
            <a:ext cx="368640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Haloge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rcRect l="0" t="0" r="30859" b="0"/>
          <a:stretch/>
        </p:blipFill>
        <p:spPr>
          <a:xfrm>
            <a:off x="0" y="2200320"/>
            <a:ext cx="6377040" cy="4657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614840" y="380880"/>
            <a:ext cx="45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ogens include fluorine (F), chlorine (Cl), bromine (Br), iodine (I), and astatine (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2"/>
          <a:stretch/>
        </p:blipFill>
        <p:spPr>
          <a:xfrm>
            <a:off x="6377040" y="2446200"/>
            <a:ext cx="27669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226040" cy="388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420840" y="4017960"/>
            <a:ext cx="3805200" cy="2840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4635360" y="517680"/>
            <a:ext cx="450864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304920" y="304920"/>
            <a:ext cx="4276440" cy="16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Noble Gas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0" y="1874880"/>
            <a:ext cx="6516720" cy="38210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5191200" y="304920"/>
            <a:ext cx="395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le gases include helium (He), neon (Ne), argon (Ar), krypton (Kr), xenon (Xe), and radon (R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5769000" y="4611600"/>
            <a:ext cx="33750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13:24:32Z</dcterms:created>
  <dc:creator>Staff</dc:creator>
  <dc:description/>
  <dc:language>en-US</dc:language>
  <cp:lastModifiedBy>Staff</cp:lastModifiedBy>
  <dcterms:modified xsi:type="dcterms:W3CDTF">2014-05-15T13:40:10Z</dcterms:modified>
  <cp:revision>2</cp:revision>
  <dc:subject/>
  <dc:title>Lecture: Families of the Periodic Table</dc:title>
</cp:coreProperties>
</file>